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633-2A35-435F-93E2-5DCEDA9E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CB2-D832-4634-9972-F73CFEA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00A53-756D-43F4-935A-05A2A678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0B94-7AC9-4164-A9A0-11DB5BFB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91FAE-E043-4B80-9A11-B8B72A3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2A8D6-4852-443C-A243-BA8CD6B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FEA8D-29E1-4419-9471-95B5E34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C770C-202F-4C82-8501-93950EE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18E3A-E248-43F4-AC50-48B29412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BA1AB-306F-4275-92BB-0CDC905B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56E8D-C49F-4F95-B1F5-4A76D193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9D692-D453-4AF0-A5F3-7FDE7ED6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21B-5872-466A-8784-ADA88A2A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36158-3384-4D1C-B0A7-E696A08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92F9C-2CE0-485A-B470-A85ACE38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D8D83-2CEC-4D87-BE30-6E9FC90F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41D71-C151-4694-97B0-EA5635E5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60C7-63A2-4DAB-80A6-8349FC3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DA379-65E6-4771-9DF9-0F0E290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553C7-CCAB-476E-9404-7CB3049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FDEF5-D9E9-4E6C-A3A3-C4EFE58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6B0D8-B5C6-4BA2-92F9-BD55AFA3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B4E8E-B36D-42A2-B9DF-6D17D7CF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5A5-D377-431F-9CB1-F7AAC32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F4422-E8A1-4FCE-AC0A-065AC1C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29719-0D94-42FA-9593-56CF08B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CA4F8-34D9-4A33-942B-4581A95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64319-6EC8-4D59-81D5-159A312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B4116-BEF1-48CF-B727-D95BCF6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F97C-3DD4-4B58-BBAD-C0518D91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3FE5-2D4D-42CF-BE91-9F25B50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B772-CBE7-4818-98B9-C061316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76A8-F44E-4F5C-999F-4D8E893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A1E6B-B8B4-44D1-8A17-B8C807A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97C8-43F8-4922-B3CD-DD065415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816D-49F6-4B88-93AD-92BD842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4A7D8-1449-4DB8-9427-541BEB61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F6938-2FBD-4147-A5BE-6B052C59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ABF1E-219F-4869-832E-D9560E7E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E58B6-4BF4-46BC-8BE5-6985A8A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55AF9-8816-445D-888C-1134FF3C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63ECD-7463-40F4-AF06-E5DE871E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C96E1-546F-48E5-B223-8EF0DA93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C48E0-25BF-4285-A259-D8EB5536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F634B-EFFD-4D07-8928-7FDDBE1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F8AF-7F94-4E80-B1A9-5B875BF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9E7E-0319-4780-8D74-E733091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DC216-984A-4A82-9AEF-31EE936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99E6C-4CEC-4743-98E6-9BCE5B92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0B7C5-B3FB-4C06-A3A5-DF99A2EA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9C254-6CDF-4DB3-9B2D-5006539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62954-598B-4612-A1DD-348382B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529A2-316D-4C68-8BA8-7819BE3F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3C9D1-418F-4693-9FA3-042FD86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2B9AD-E93F-48B3-BD8E-968C5938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038E4-ACD8-4211-98BF-0B5E812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7EA7-24CF-4FCD-801A-AF5F5AA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CE46A-C329-46A1-B619-C2B4FC7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2FB98-76EA-47FB-B4C7-D740F93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E8B45-9EF1-4A0E-9B6E-678A501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3D9B4-7FF0-4592-9163-E887CB5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BEA9C-3739-485D-8FC5-D05A159A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23F0E-B95C-440F-B9B6-4FAFB88B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90BA8-530A-4863-9757-3EFCE0A4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A2AB0-A727-43D0-A0EB-CB28376D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A58FE-651B-4AB2-9FD0-D0CC5F24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50963-86D4-4303-B6EF-3BD85378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B9BD-C1BC-4ABD-AEAE-51F7E6C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88D14-C38B-422B-B426-8279ABB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D6BF1-EEBD-4716-98FE-D54F068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91A1C-EC9E-45E9-BC6F-6E4FBF6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34745-6392-4E1D-9C0D-46225B8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FCC4D-3012-46D2-BDDB-8AD31CF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902AD-AF4A-4411-AA94-7EF60D9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C6A64-CB72-4CA3-85D2-C19BC04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64AF6-19F3-44CE-944B-0EE2594C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FFF8E-D222-4A14-BCD9-0A076E67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B51FE-169F-47B5-9244-1634785F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6BF-5B50-4E63-815A-16AD85E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D6091-4A91-43FB-AAE8-E7A8223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09DB2-B96D-4BFE-9A8A-9D316BD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CD5CA-9AB5-4A97-A48C-A6DB7E1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746D7-2B5C-4DC6-8543-A6A9DBF1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4370B-E13D-44EB-8D27-1DB70AD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0B29A-3235-4C2B-855D-C80D498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01F42-B587-4C71-95A2-2832B87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BC402-2026-4F3F-B564-11BD378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E1FAE-2AB6-4A2E-96D6-4733F6E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148D4-144E-4A43-A986-7E891E6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580-98ED-4C34-A038-71DAA4B6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62B95-C5FB-41B8-8A62-1C038C86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76C88-638A-4DFD-A4BC-C9FA2DB5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07D52-01D7-49C9-B7F1-26CA492C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43F56-3EF8-439E-8891-BB29BFA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0E57A-2439-49C9-A985-0BDB57E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8F361-EBFB-4879-9219-588CDD28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46E2B-668E-4580-95A5-00F7EA91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023D3-D2EC-4515-A1A5-7618C77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6EEB7-ECDA-422E-9A78-37347AD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3F2DB-7CDF-4120-910D-0E2E2DF9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3DB-B989-4101-9159-ABD1906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E1397-47BD-44CB-9062-29E71EF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B099B-2BD5-44FF-AE6B-07296E8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6F65B-1032-423A-A475-8D729AE4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68405-6000-401F-9380-39A53329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BB652-1211-4C96-8492-05B56D7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178D3-7AF5-4CFA-B6F1-AD709022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B861B-D563-4DE6-9055-8D7BDE3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A666B-85AF-4CC2-B028-732CBA8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4AFA2-5DC3-40E1-985C-392ACCF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BC073-3437-4FAF-898C-0CBC2DF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63E-3867-4074-9544-6E078AF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F03-BB66-4F14-9043-D4C65B8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EFE00-32EE-4DCC-ADE1-33E9E4F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3DA2F-8502-4AE8-9654-1DAF9B8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38BBE-33AE-4BE7-9FE1-0256C3A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4BF6B-A360-4E28-B4A1-B22C2157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C3CEC-7089-449E-BE3E-D68DDA80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76630-6291-4760-A66E-C69EEF2E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BBC8E-A901-4ECC-8E6B-74CD3E13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444CC-2A85-4795-88E4-B9A31A5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16350-062C-4472-858B-3D4C857C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26BCB-5A5E-466C-9EE8-97B4836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00AE-43E4-429A-85E0-1345031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BE2DA-AF3A-4CAC-876C-A6D6F1E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C356C-066B-4F5B-97A0-DB41EDD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47DFB-9272-4529-9168-63D123F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663FD-F064-4921-961E-267F93E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99D20-3E63-4C36-AD0B-CC2C2AB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7D435-704E-41E4-A06E-2372F48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0BD21-9CF6-41D0-B753-947430ED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A484-1ECC-4FB8-9327-81DF26FE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B3CC8-6C27-4297-BFDF-04B2DF17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8EE2C-3A9B-4837-974B-D948A1C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FC6-FF6B-4CAF-9DC4-E2A6C96A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C46DC-1323-4861-AAE0-C4F18D31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83370-1D74-46ED-8262-7F634C9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950B0-2211-4D30-BBD2-0160692A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D625B-6E09-426D-B3F6-EB70B39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98982-4181-4F5A-A7C2-DD6B972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05CD1-3997-41D6-955B-E1D8FC2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359E4-F295-44BA-8E4E-845DB61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03994-3E3B-45AB-8D97-E4BCF932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7D848-47C6-4CA2-8BD6-88057C3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AEAEA-FD5E-46F2-8F80-0747CD5A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8320-43E7-44B6-AD05-87B9164C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7B8B2-0E86-4296-8C28-BAC769BF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1B897-08B2-44FF-AE43-ED1BCA61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CB3FA-BE24-4F47-AE82-D8FBF47D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4B684-F655-4D98-9F2D-6360332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47675-5D6D-44AC-A1A9-B0682125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0DC06-AFA9-4042-9D03-88C4958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C16CD-E143-4866-850D-F259845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CE183-A018-41E0-88ED-4779A22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563F3-1C8F-4D8B-B75C-144F410F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3F539-0D7A-407E-9FA9-50FE192F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E196-AFC4-4899-933C-B1E94604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3BD54-44B2-4149-89EB-611DD27C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95927-4F32-41F6-8FDB-1C578599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F5D8D-C4B5-4284-A8DC-553C9AB0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F1C87-004A-4B6A-92C4-3670C42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128FD-6EAB-4030-AD76-5DF91FF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D2CF5-B020-4DCC-9660-11813D9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BE5B1-72BB-453A-85DE-73EBD6F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F34FD-1109-431B-9F49-F4ADABE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8CA47-D55D-4BAC-B9EC-5D47035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02C76-BD14-4785-BC44-4579CEC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0CBC-3CE2-4DDF-822B-DC20FB5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9DDF9-739F-4BFE-A3D5-A8347B9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EFCCEC-AD55-48D9-8296-2966D48D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F5881-218C-4EE0-877D-A8E0E900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518B7F-25FC-4D92-8559-4C4747E4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E909C3-7932-4C86-ADAF-368B52D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6C3EC-7D40-424A-9633-1EF41EF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65BA7-CA37-4F0F-81B6-1C8CAAEB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1F31C-976E-4C35-94FF-B531E4B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455192-90FD-4E9D-8D2E-67A75912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B62E8-DEE7-44BE-9E3C-04DF4E7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9B80-2EA1-4246-8BC6-9C3B67F9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8C3CB5-2918-420A-96D9-857BF58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6EB89-48D7-47B8-B01F-FA4606B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0E70C-81B0-4393-A16D-6BD317E2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DCD9E5-B68E-4232-8E06-07FF1EF7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162A0-6174-4034-BAF4-98B29A29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CA94D6-E5DC-4E1F-BB8F-CAB43568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070D2-56A5-45D6-ABFE-2B00EF2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5D0FBD-092E-4784-858D-F9028D5C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5841F-F183-4F23-B9C5-1639077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AB280-5B9B-4D7C-9C64-969FF71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1046-F393-46FC-9029-D2FAA57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34BE6-2181-4400-8371-71C937C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44BB2-9F3F-4F39-92D9-AEB062B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DEC00A-5DD1-44D4-936D-99E1BC9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19650F-1A30-4834-97DC-78FD602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EB88B0-B322-4DE6-9DCF-C8EBB1A7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9AF1D-BD88-46B9-9E26-354105A6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B3C01-0308-463D-9530-00C564FB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6F48-AF27-4A0F-BA75-70BB655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3492-B696-41A1-978B-09322D8D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C77-57E7-4309-A82F-304F974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162A-8072-4B50-B96B-BFC66AE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238C-C089-434A-B16F-E1FD5F2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627E-2703-4A6C-ADAB-4427D01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7EAF-4518-4CC3-8AA7-9856FD0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8130-E51F-4EC7-BB44-259A31D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D0AA-E14B-4C02-8306-DEF51D06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0D8E-B8DD-43A1-B2FD-2F193581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BB94-F118-4659-AEFA-F7B82CF5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9E57-CE4B-461B-BF71-31DB381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0088-435E-4808-8C06-184B89A8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513-3DE5-4D32-9C1B-B94F6F2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5F46-70A6-456E-BDAE-5DDEA7F2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F138-5896-4E4D-A964-87C53D52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024A-672C-4084-BC96-D35369F3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2449-A6AD-40D7-A8D1-C183B5F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D2C1-8A97-4075-9601-1BE68B7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344F-A4DE-4408-A577-756426F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DC07-C036-4EB1-A4B7-64D89A3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FEB4D-74C5-48CE-A894-B39341AA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DEEA-95F2-4D2B-B641-9B7A9515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420C-DBB8-4749-81CA-4DA55735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3C5-7814-4387-A7E9-FB20EEE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42AA-0A33-4968-A86B-7879455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C7DF-7E1E-4727-9B51-2C97C98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E2B1-3BDA-4772-9972-52B1207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1CAD-968C-44A1-85C2-D30E8B07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5883-5294-4355-AD27-4A94EEDD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3E2B-149A-4109-BD58-C45E5FD0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DA48-2F37-4D4C-9619-7D03E1B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3D3F-4860-4310-82C0-603DA00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4E21-A1AE-4475-A7FB-60758AB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4979-44DC-4BB5-B51F-F5219A54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620-D49C-42C1-B9D1-222FE70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AE0B-3DD4-4528-BC64-2A093375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E73D-A1A1-46D7-8BA0-7582C57D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ADB3-64D7-408B-BF2A-D08C967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EE77-94B7-4BCD-AE5D-70AACDE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DB08-92FF-4E2E-9AE5-1F78B8A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32B9-71B9-49AB-8172-CF515B1D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56D9-DFD1-4C33-ADB9-C96A893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88D16-0593-4D81-B1CD-86B77D6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A5D3-B804-437D-8291-99EC219E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655F-FADE-49DE-A87A-6C4E254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400-7C0B-4763-AF99-DD90C32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40F0-6E9C-41FE-8FA0-5837B18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84E9-43A7-42B5-968B-661945DA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4CF7-BE35-40A7-9E86-5D1E43DC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7F40-3236-458B-97F6-FEC07828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8095-D8BB-44FC-9F27-DD1A77A6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9337-936A-4C42-8C57-2AFB843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4959-EE5E-4F5A-91FE-7B64BED8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7E96-E2C7-45BA-B21B-9DA50A5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9439-44DE-4258-A140-B2FF782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B4D4-E0C5-406A-A05C-5ECC7A9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738-A757-4FF1-A2B7-F372284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28E4-FD0A-459D-905C-DB89BD3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056FF-2960-4A9C-BFC7-382BAAC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208B-FC3C-4478-9653-3D6B348D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F846-FEBD-4554-89C5-394E73AC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1B52-7542-47F7-829D-75E2F895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19383-D2D0-4499-9797-0D8A392A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26E7-78E1-4AC6-B963-F8576DD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8069-E7AC-4127-848E-811BE068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013F-DC90-4ED0-8D72-9CE416FD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8A5D-B3E2-4A33-A8CD-C5A85CB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B1F-C5AA-4646-B781-AEF9704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1DACF-7A4F-45D9-B302-964FE95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280E-F73D-4706-8260-B018789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993F-23EE-4F9B-B89E-CB104B0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C62B-199A-4FD8-BEDE-582E679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CFE4-3C80-4894-99E8-A5564672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0BEC-930A-4FB9-8222-CA79B881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D03B-BA00-41C2-8CBC-D8CBD701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86689-A019-4B16-BB8B-86488CC2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E8085-ED7E-40C4-9534-2F19740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D3EB-460C-4481-93BE-3EF8D5E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373A-AC7B-4F0B-9048-F23A3B572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284F-03A4-46A9-B018-1D30E77AC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BC6-3E70-4F49-9962-E6F4EA3DA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085-F557-480E-93F4-E61F854B2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7F5-FCE5-4A05-BF32-DD3FF4D678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164B-1EA1-4142-8F04-6BADB4AE4B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F36-C5FF-4063-9E9D-2CF5E353E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826B-D507-4468-B420-F947C7C2A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256-AD58-4B92-B731-95DE87BE0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914-CDCE-413F-A492-DEC9CA223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635-C754-4388-9AB9-498E21D79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D70C-838C-4C9B-939C-5B042560F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8711-6037-4E55-9B73-1F60EFD3A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8AA-F4E2-4F7B-BE2D-E35E5A6D8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8EE-A3C7-48E5-97B7-422905904E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B96-85A6-4415-B1AC-72C08E9FD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6902-F2AF-4BE8-A139-435D308D2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FC6-9076-481A-9AAE-C983E88504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77A-6CDA-45E6-B35B-12247AEB4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FC1-075B-41C3-AE7D-C4B220B69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48F1-6678-4186-BA96-8721E9BF7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2E66-8F90-487B-9814-EAF521529C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097E-ECA3-4B86-87C3-E448CD50F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6FE8-77BA-447A-B519-D1B8DE802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81A-0EA5-46DD-8704-6378E8F7A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89F1-F855-4565-8B5C-A38DE0613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B5E-7092-4411-93B6-9015B2D16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5156-BC31-48CD-8BB5-5A3B6F87A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F77-4B0F-4046-A6D2-A4E11639B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A512-A85A-44D2-A0AB-8B977DEF2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801-3FDF-4871-8C85-207469826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F3D2-B794-47CA-A783-713B250D0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8FA-246F-4B7C-80D9-DFFC06A524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6108-1CF5-4E75-AF5D-221AFCA931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B4EF-23E5-45F0-B50D-CDB9E2F94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B849-2F38-42D3-8A0A-B188C759B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229-85B7-4F91-9C52-119C77140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C19-7FF8-4A98-A2C7-F1726DE6F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CBD8-A6FE-43DA-9BD9-6402416B2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8ACC-2C4C-4CE6-BED0-C65C3BF84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406-825D-4AF1-BA7A-E9E85FE65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49D8-71BC-4160-B278-1B8326305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7240" y="3122640"/>
            <a:ext cx="80870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4760" y="1339920"/>
            <a:ext cx="8934480" cy="18478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143000" y="3630600"/>
            <a:ext cx="6858000" cy="2257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91636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51640" y="1773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14836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496360" y="1773360"/>
            <a:ext cx="4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288280" y="229068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2771640" y="4292640"/>
            <a:ext cx="8128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2771640" y="494172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5940360" y="422100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300720" y="4869000"/>
            <a:ext cx="812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3628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414360" y="1333440"/>
            <a:ext cx="8315280" cy="4191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348000" y="142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910120" y="2320920"/>
            <a:ext cx="5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61160" y="276552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3276720" y="3990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2743200" y="4451400"/>
            <a:ext cx="19731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774720" y="905040"/>
            <a:ext cx="7753320" cy="5543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364000" y="299736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21440" y="5056200"/>
            <a:ext cx="31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292720" y="5632560"/>
            <a:ext cx="31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865080" y="757080"/>
            <a:ext cx="7591680" cy="5924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13971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76720" y="193032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5003640" y="46245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5003640" y="5157720"/>
            <a:ext cx="27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2280" y="1090440"/>
            <a:ext cx="8839440" cy="4677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3415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249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62000" y="1081080"/>
            <a:ext cx="8820000" cy="4695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325584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826920" y="5084640"/>
            <a:ext cx="756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66680" y="1400040"/>
            <a:ext cx="8810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00000" y="48546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57320" y="879480"/>
            <a:ext cx="8829360" cy="5838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37018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042920" y="5589720"/>
            <a:ext cx="424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4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